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4.png" ContentType="image/png"/>
  <Override PartName="/ppt/media/image1.gif" ContentType="image/gi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314E-9B9F-48E9-AB9D-D5E7FF0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AA78A-419A-4644-B89F-4DF2333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C19E-B30E-46FE-B8B0-54DE109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D1C5-3E9B-42D3-9BDA-93B82AA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F32F-E466-4E03-8A81-061859F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5B82-EBF8-4FFE-8671-278E9B6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123C-F012-499D-A649-93EA9E77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2B1-EA7E-4104-92C0-D802A356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FAD7-5D9B-4B75-8CF4-CAFBFB55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258E-B42C-49C9-94A0-3D30039E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D102-6E94-441C-802E-DCDF02A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E1E9-506B-4C50-8C71-3E83B03E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64A-0599-489B-A5BD-4B9667E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8C5C-C285-4760-BA93-415BC24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5A5-6E45-4DAA-A5D8-6EE3E7F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FC7-2B3E-4F4B-ADC6-9A5FA322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CDE7-A116-4AD8-BF0E-4CF7CA8A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9EC5-F896-4F8D-81A7-A4BCCB8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4153-2BE1-4CB5-84DA-FFAD03BB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C75F-418B-411A-AFC9-5ABB0F6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C3B7-47D8-4937-9B73-153D807A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1779-216F-4D89-A597-8EFBB6B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ADB2-B87E-4212-B007-72295CE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17F0-BE42-4FD7-8B25-7EBF5F85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44B5-3E67-4A95-BABD-3B02ADB08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7C3-1201-48B1-AA5B-785E7D64B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claimimages.com/_gallery/_SM/0001-0208-2308-3718_SM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acclaimimages.com/_gallery/_SM/0001-0312-1111-0305_SM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eb.jjay.cuny.edu/~acarpi/NSC/images/protexch.gif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tes: Basic Chemist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it: The Chemistry of Lif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urface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3514680" cy="312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10080" y="45720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kippers on a p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0283-71EB-4644-987B-9C52DDA105ED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he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ater sticks to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886200" cy="268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191120" y="2635200"/>
            <a:ext cx="4952880" cy="3855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10080" y="228600"/>
            <a:ext cx="350388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0911-5F71-4729-B653-F66223957F4C}" type="slidenum">
              <a:t>11</a:t>
            </a:fld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dhe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water sticks to other th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5867640" cy="3479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89040" cy="3371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543F-C9BD-428E-BED6-338AE84FD2BF}" type="slidenum">
              <a:t>12</a:t>
            </a:fld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 Mixtures an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of substances in which each substance retains its chemical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and and 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combination in which one substance is dissolved into the 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ocolate milk, ocea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Photos of Sand Dunes at Death Va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60020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Photo of Sunset Cliffs Waves, Pt Loma, San Diego, Californi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4267080"/>
            <a:ext cx="1905120" cy="237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E2FC-FC41-45C3-83C2-2CAF28544A17}" type="slidenum">
              <a:t>13</a:t>
            </a:fld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lu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he substance that is being dissolv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emonade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lv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The substance that the solute is being dissolved i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4680" y="208584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477120" y="2590920"/>
            <a:ext cx="1104840" cy="103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78884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1D70-9357-42E1-88FB-E96B28CB210B}" type="slidenum">
              <a:t>14</a:t>
            </a:fld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I. Acids &amp; B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ter can break in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arged 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(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x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(O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Compounds in solution with water cause water to break &amp; becom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Measure amount of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1" lang="en-US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lution gives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5AF3-1523-478F-904B-40FF7A185130}" type="slidenum">
              <a:t>15</a:t>
            </a:fld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orm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s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ixed with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7848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6248520"/>
            <a:ext cx="4013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eb.jjay.cuny.edu/~acarpi/NSC/images/protexch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3881520" cy="34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D3AD-8F27-4AF7-8578-713D3AB91ED0}" type="slidenum">
              <a:t>16</a:t>
            </a:fld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form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x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ons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ixed with water.  Also referred to as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lkali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20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odium Hydroxide (NaO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3505320" cy="31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E0DA-2033-4F9C-A57B-551918DC9D10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2438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number that measures how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bas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solution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5105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The scale ranges from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most acidic to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most basic or alkaline).  The number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neutr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C8F4-35CF-499B-95BA-239C9B1609C4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the bottom of your notes, we are going to create a pH scale to use on our next laborato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429000"/>
            <a:ext cx="6400800" cy="7621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429000"/>
            <a:ext cx="45720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429000"/>
            <a:ext cx="457200" cy="7621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429000"/>
            <a:ext cx="45720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3429000"/>
            <a:ext cx="457200" cy="762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3429000"/>
            <a:ext cx="457200" cy="76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429000"/>
            <a:ext cx="457200" cy="762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429000"/>
            <a:ext cx="457200" cy="762120"/>
          </a:xfrm>
          <a:prstGeom prst="rect">
            <a:avLst/>
          </a:prstGeom>
          <a:solidFill>
            <a:srgbClr val="cc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3429000"/>
            <a:ext cx="457200" cy="76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429000"/>
            <a:ext cx="457200" cy="7621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3429000"/>
            <a:ext cx="457200" cy="762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457200" cy="76212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429000"/>
            <a:ext cx="457200" cy="76212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429000"/>
            <a:ext cx="457200" cy="762120"/>
          </a:xfrm>
          <a:prstGeom prst="rect">
            <a:avLst/>
          </a:prstGeom>
          <a:solidFill>
            <a:srgbClr val="8c06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3429000"/>
            <a:ext cx="457200" cy="762120"/>
          </a:xfrm>
          <a:prstGeom prst="rect">
            <a:avLst/>
          </a:prstGeom>
          <a:solidFill>
            <a:srgbClr val="4101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648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533D-6B3C-407E-92B8-64080270B1B1}" type="slidenum">
              <a:t>19</a:t>
            </a:fld>
          </a:p>
        </p:txBody>
      </p:sp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tom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he basic building block fo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tter.  The smallest unit of a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l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920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3039840" cy="3352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.  Basic 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6801-3A1D-47F4-B7C4-A3281B1A2F5C}" type="slidenum">
              <a:t>2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2D16-389A-4320-A3A6-C306E6A79FF9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Parts of t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In the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otons (+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eutrons (neut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Outside the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lectron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(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46960" y="2521080"/>
            <a:ext cx="2017440" cy="180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81480" y="2895480"/>
            <a:ext cx="190512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581280"/>
            <a:ext cx="129528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19720" y="4419360"/>
            <a:ext cx="297180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06D3-13DB-41D6-B500-6145762465E5}" type="slidenum">
              <a:t>4</a:t>
            </a:fld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How to Read the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349280"/>
            <a:ext cx="8229600" cy="5027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143000"/>
            <a:ext cx="8458200" cy="5257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2743200" cy="2743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33920" y="1676520"/>
            <a:ext cx="1371600" cy="2135880"/>
            <a:chOff x="3733920" y="1676520"/>
            <a:chExt cx="1371600" cy="2135880"/>
          </a:xfrm>
        </p:grpSpPr>
        <p:sp>
          <p:nvSpPr>
            <p:cNvPr id="124" name=""/>
            <p:cNvSpPr/>
            <p:nvPr/>
          </p:nvSpPr>
          <p:spPr>
            <a:xfrm>
              <a:off x="3733920" y="205740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c00"/>
                  </a:solidFill>
                  <a:latin typeface="Arial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1676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3352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Arial"/>
                </a:rPr>
                <a:t>22.9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92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362320" y="3200400"/>
            <a:ext cx="13716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OMIC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057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OMIC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590920"/>
            <a:ext cx="137160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1828800"/>
            <a:ext cx="23619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876560" y="3886200"/>
            <a:ext cx="19047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219320"/>
            <a:ext cx="1828800" cy="2351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omic Numb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pr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electrons (if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809880"/>
            <a:ext cx="1828800" cy="2004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omic Mas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protons     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# of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724280"/>
            <a:ext cx="579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267080"/>
            <a:ext cx="57150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99ff"/>
                </a:solidFill>
                <a:uFillTx/>
                <a:latin typeface="Arial"/>
              </a:rPr>
              <a:t>Pract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How many protons, neutrons, and electrons does a neutral sodium atom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486400"/>
            <a:ext cx="6629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otons = 11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lectrons = 11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Neutrons = 23 – 11 = 12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BB64-A692-4C53-BBA2-5557A50A939E}" type="slidenum">
              <a:t>5</a:t>
            </a:fld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Chemical Compou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ompound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ubstance formed by the chemical reaction of 2 or more elements in a definite propor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3962520"/>
          <a:ext cx="4038840" cy="226512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a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uc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drochlo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371600" y="3886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CAF3-90FA-44AA-AC6F-A3963927A124}" type="slidenum">
              <a:t>6</a:t>
            </a:fld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ond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d from attrac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between atoms to form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92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D114-65E9-43D7-AB62-D62E3C2147D2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. Importance of Wa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77960" cy="1557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ost important substance f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Living things are 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Water is required for e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cal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Water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Universal Sol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Water 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ar 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as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124080" y="4862520"/>
            <a:ext cx="2742840" cy="1996560"/>
            <a:chOff x="3124080" y="4862520"/>
            <a:chExt cx="2742840" cy="1996560"/>
          </a:xfrm>
        </p:grpSpPr>
        <p:grpSp>
          <p:nvGrpSpPr>
            <p:cNvPr id="150" name=""/>
            <p:cNvGrpSpPr/>
            <p:nvPr/>
          </p:nvGrpSpPr>
          <p:grpSpPr>
            <a:xfrm>
              <a:off x="3124080" y="4862520"/>
              <a:ext cx="2742840" cy="1775160"/>
              <a:chOff x="3124080" y="4862520"/>
              <a:chExt cx="2742840" cy="1775160"/>
            </a:xfrm>
          </p:grpSpPr>
          <p:sp>
            <p:nvSpPr>
              <p:cNvPr id="151" name=""/>
              <p:cNvSpPr/>
              <p:nvPr/>
            </p:nvSpPr>
            <p:spPr>
              <a:xfrm>
                <a:off x="4681080" y="4862520"/>
                <a:ext cx="1185840" cy="70056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46200" y="5236200"/>
                <a:ext cx="2446560" cy="14014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24080" y="4908960"/>
                <a:ext cx="1185840" cy="70056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87440" y="6030360"/>
                <a:ext cx="126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99"/>
                    </a:solidFill>
                    <a:latin typeface="Tahoma"/>
                  </a:rPr>
                  <a:t>Oxy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24080" y="5048280"/>
                <a:ext cx="1185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Tahoma"/>
                  </a:rPr>
                  <a:t>Hydro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81080" y="5002560"/>
                <a:ext cx="1185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Tahoma"/>
                  </a:rPr>
                  <a:t>Hydrog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420360" y="519156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9840" y="509616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2400" y="6216480"/>
              <a:ext cx="59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ff"/>
                  </a:solidFill>
                  <a:latin typeface="Tahoma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75EE-24A9-4A1B-BEC3-4775A963ECC1}" type="slidenum">
              <a:t>8</a:t>
            </a:fld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9532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ydrogen Bon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weak bond formed betwee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ds of water molecu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797280" cy="36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61BB-3B95-41D1-BD26-C7AA6A9FFD38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21:06:33Z</dcterms:created>
  <dc:creator>Edward Terzian, Jr.</dc:creator>
  <dc:description/>
  <dc:language>en-US</dc:language>
  <cp:lastModifiedBy>teacher</cp:lastModifiedBy>
  <cp:lastPrinted>2004-02-11T13:03:47Z</cp:lastPrinted>
  <dcterms:modified xsi:type="dcterms:W3CDTF">2009-02-05T18:01:54Z</dcterms:modified>
  <cp:revision>98</cp:revision>
  <dc:subject/>
  <dc:title>The Chemistry of Life</dc:title>
</cp:coreProperties>
</file>